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B3A1-5CCE-4127-8DDB-893C4B7044B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228C-0337-49AE-B048-B5AF9494F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985680" y="741240"/>
            <a:ext cx="4886640" cy="3665520"/>
          </a:xfrm>
          <a:prstGeom prst="rect">
            <a:avLst/>
          </a:prstGeom>
          <a:ln w="0">
            <a:noFill/>
          </a:ln>
        </p:spPr>
      </p:sp>
      <p:sp>
        <p:nvSpPr>
          <p:cNvPr id="10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211C-26B9-433E-91AE-8A1D29273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PlaceHolder 1"/>
          <p:cNvSpPr>
            <a:spLocks noGrp="1"/>
          </p:cNvSpPr>
          <p:nvPr>
            <p:ph type="sldImg"/>
          </p:nvPr>
        </p:nvSpPr>
        <p:spPr>
          <a:xfrm>
            <a:off x="985680" y="741240"/>
            <a:ext cx="4886640" cy="3665520"/>
          </a:xfrm>
          <a:prstGeom prst="rect">
            <a:avLst/>
          </a:prstGeom>
          <a:ln w="0">
            <a:noFill/>
          </a:ln>
        </p:spPr>
      </p:sp>
      <p:sp>
        <p:nvSpPr>
          <p:cNvPr id="10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F9A0-FC87-4989-ADC1-DBF525C60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985680" y="741240"/>
            <a:ext cx="4886640" cy="3665520"/>
          </a:xfrm>
          <a:prstGeom prst="rect">
            <a:avLst/>
          </a:prstGeom>
          <a:ln w="0">
            <a:noFill/>
          </a:ln>
        </p:spPr>
      </p:sp>
      <p:sp>
        <p:nvSpPr>
          <p:cNvPr id="1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323A-3CD7-42E9-96D1-C6601D417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8" name="PlaceHolder 1"/>
          <p:cNvSpPr>
            <a:spLocks noGrp="1"/>
          </p:cNvSpPr>
          <p:nvPr>
            <p:ph type="sldImg"/>
          </p:nvPr>
        </p:nvSpPr>
        <p:spPr>
          <a:xfrm>
            <a:off x="985680" y="741240"/>
            <a:ext cx="4886640" cy="3665520"/>
          </a:xfrm>
          <a:prstGeom prst="rect">
            <a:avLst/>
          </a:prstGeom>
          <a:ln w="0">
            <a:noFill/>
          </a:ln>
        </p:spPr>
      </p:sp>
      <p:sp>
        <p:nvSpPr>
          <p:cNvPr id="10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C5BA-27FE-4751-8264-235C8416E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sldImg"/>
          </p:nvPr>
        </p:nvSpPr>
        <p:spPr>
          <a:xfrm>
            <a:off x="985680" y="741240"/>
            <a:ext cx="4886640" cy="3665520"/>
          </a:xfrm>
          <a:prstGeom prst="rect">
            <a:avLst/>
          </a:prstGeom>
          <a:ln w="0">
            <a:noFill/>
          </a:ln>
        </p:spPr>
      </p:sp>
      <p:sp>
        <p:nvSpPr>
          <p:cNvPr id="10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25E9-61CF-4B7D-980C-53961B48F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985680" y="741240"/>
            <a:ext cx="4886640" cy="3665520"/>
          </a:xfrm>
          <a:prstGeom prst="rect">
            <a:avLst/>
          </a:prstGeom>
          <a:ln w="0">
            <a:noFill/>
          </a:ln>
        </p:spPr>
      </p:sp>
      <p:sp>
        <p:nvSpPr>
          <p:cNvPr id="10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B61C-1F74-432B-898F-0713297F1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985680" y="741240"/>
            <a:ext cx="4886640" cy="3665520"/>
          </a:xfrm>
          <a:prstGeom prst="rect">
            <a:avLst/>
          </a:prstGeom>
          <a:ln w="0">
            <a:noFill/>
          </a:ln>
        </p:spPr>
      </p:sp>
      <p:sp>
        <p:nvSpPr>
          <p:cNvPr id="1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B433-1230-4810-A41B-6B463E2C8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985680" y="741240"/>
            <a:ext cx="4886640" cy="3665520"/>
          </a:xfrm>
          <a:prstGeom prst="rect">
            <a:avLst/>
          </a:prstGeom>
          <a:ln w="0">
            <a:noFill/>
          </a:ln>
        </p:spPr>
      </p:sp>
      <p:sp>
        <p:nvSpPr>
          <p:cNvPr id="10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5B57-AC8E-4BC1-A910-A500BE6E0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985680" y="741240"/>
            <a:ext cx="4886640" cy="3665520"/>
          </a:xfrm>
          <a:prstGeom prst="rect">
            <a:avLst/>
          </a:prstGeom>
          <a:ln w="0">
            <a:noFill/>
          </a:ln>
        </p:spPr>
      </p:sp>
      <p:sp>
        <p:nvSpPr>
          <p:cNvPr id="10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216F-F4CA-475E-957B-7E8C4C725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985680" y="741240"/>
            <a:ext cx="4886640" cy="3665520"/>
          </a:xfrm>
          <a:prstGeom prst="rect">
            <a:avLst/>
          </a:prstGeom>
          <a:ln w="0">
            <a:noFill/>
          </a:ln>
        </p:spPr>
      </p:sp>
      <p:sp>
        <p:nvSpPr>
          <p:cNvPr id="10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3E01-4CBD-43A3-9F7B-594477E3A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7C57-1ABE-4555-8010-EE9479BC5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985680" y="741240"/>
            <a:ext cx="4886640" cy="3665520"/>
          </a:xfrm>
          <a:prstGeom prst="rect">
            <a:avLst/>
          </a:prstGeom>
          <a:ln w="0">
            <a:noFill/>
          </a:ln>
        </p:spPr>
      </p:sp>
      <p:sp>
        <p:nvSpPr>
          <p:cNvPr id="10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4484-2584-45DD-A4D8-41CE8BC62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985680" y="741240"/>
            <a:ext cx="4886640" cy="3665520"/>
          </a:xfrm>
          <a:prstGeom prst="rect">
            <a:avLst/>
          </a:prstGeom>
          <a:ln w="0">
            <a:noFill/>
          </a:ln>
        </p:spPr>
      </p:sp>
      <p:sp>
        <p:nvSpPr>
          <p:cNvPr id="10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F950-ACC5-4CD7-919D-41938D2C7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985680" y="741240"/>
            <a:ext cx="4886640" cy="3665520"/>
          </a:xfrm>
          <a:prstGeom prst="rect">
            <a:avLst/>
          </a:prstGeom>
          <a:ln w="0">
            <a:noFill/>
          </a:ln>
        </p:spPr>
      </p:sp>
      <p:sp>
        <p:nvSpPr>
          <p:cNvPr id="10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21FD-D98E-4D67-897A-1F9689352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985680" y="741240"/>
            <a:ext cx="4886640" cy="3665520"/>
          </a:xfrm>
          <a:prstGeom prst="rect">
            <a:avLst/>
          </a:prstGeom>
          <a:ln w="0">
            <a:noFill/>
          </a:ln>
        </p:spPr>
      </p:sp>
      <p:sp>
        <p:nvSpPr>
          <p:cNvPr id="10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627B-22FC-4CCE-BAA4-09DE82FE2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985680" y="741240"/>
            <a:ext cx="4886640" cy="3665520"/>
          </a:xfrm>
          <a:prstGeom prst="rect">
            <a:avLst/>
          </a:prstGeom>
          <a:ln w="0">
            <a:noFill/>
          </a:ln>
        </p:spPr>
      </p:sp>
      <p:sp>
        <p:nvSpPr>
          <p:cNvPr id="10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DB61-E138-4D86-AE36-D98E41343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985680" y="741240"/>
            <a:ext cx="4886640" cy="3665520"/>
          </a:xfrm>
          <a:prstGeom prst="rect">
            <a:avLst/>
          </a:prstGeom>
          <a:ln w="0">
            <a:noFill/>
          </a:ln>
        </p:spPr>
      </p:sp>
      <p:sp>
        <p:nvSpPr>
          <p:cNvPr id="10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D230-4EB8-4FED-AE09-35FC48D97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985680" y="741240"/>
            <a:ext cx="4886640" cy="3665520"/>
          </a:xfrm>
          <a:prstGeom prst="rect">
            <a:avLst/>
          </a:prstGeom>
          <a:ln w="0">
            <a:noFill/>
          </a:ln>
        </p:spPr>
      </p:sp>
      <p:sp>
        <p:nvSpPr>
          <p:cNvPr id="10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D71B-4D88-4923-9381-652BABCCE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985680" y="741240"/>
            <a:ext cx="4886640" cy="3665520"/>
          </a:xfrm>
          <a:prstGeom prst="rect">
            <a:avLst/>
          </a:prstGeom>
          <a:ln w="0">
            <a:noFill/>
          </a:ln>
        </p:spPr>
      </p:sp>
      <p:sp>
        <p:nvSpPr>
          <p:cNvPr id="10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FA29-DA51-4EC8-A015-BDC4B1D4D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985680" y="741240"/>
            <a:ext cx="4886640" cy="3665520"/>
          </a:xfrm>
          <a:prstGeom prst="rect">
            <a:avLst/>
          </a:prstGeom>
          <a:ln w="0">
            <a:noFill/>
          </a:ln>
        </p:spPr>
      </p:sp>
      <p:sp>
        <p:nvSpPr>
          <p:cNvPr id="10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B5CD-6167-4609-8080-7DB2D9C3D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PlaceHolder 1"/>
          <p:cNvSpPr>
            <a:spLocks noGrp="1"/>
          </p:cNvSpPr>
          <p:nvPr>
            <p:ph type="sldImg"/>
          </p:nvPr>
        </p:nvSpPr>
        <p:spPr>
          <a:xfrm>
            <a:off x="985680" y="741240"/>
            <a:ext cx="4886640" cy="3665520"/>
          </a:xfrm>
          <a:prstGeom prst="rect">
            <a:avLst/>
          </a:prstGeom>
          <a:ln w="0">
            <a:noFill/>
          </a:ln>
        </p:spPr>
      </p:sp>
      <p:sp>
        <p:nvSpPr>
          <p:cNvPr id="10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C29A-D0ED-4DA1-8759-50DC624B5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D157-4C28-4097-9A68-464CA4279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985680" y="741240"/>
            <a:ext cx="4886640" cy="3665520"/>
          </a:xfrm>
          <a:prstGeom prst="rect">
            <a:avLst/>
          </a:prstGeom>
          <a:ln w="0">
            <a:noFill/>
          </a:ln>
        </p:spPr>
      </p:sp>
      <p:sp>
        <p:nvSpPr>
          <p:cNvPr id="10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AC57-E1CF-444E-9007-9F53D8062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985680" y="741240"/>
            <a:ext cx="4886640" cy="3665520"/>
          </a:xfrm>
          <a:prstGeom prst="rect">
            <a:avLst/>
          </a:prstGeom>
          <a:ln w="0">
            <a:noFill/>
          </a:ln>
        </p:spPr>
      </p:sp>
      <p:sp>
        <p:nvSpPr>
          <p:cNvPr id="1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471A-12B3-4207-93EE-A9F286513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985680" y="741240"/>
            <a:ext cx="4886640" cy="3665520"/>
          </a:xfrm>
          <a:prstGeom prst="rect">
            <a:avLst/>
          </a:prstGeom>
          <a:ln w="0">
            <a:noFill/>
          </a:ln>
        </p:spPr>
      </p:sp>
      <p:sp>
        <p:nvSpPr>
          <p:cNvPr id="10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C87D-5203-4656-BE29-1125F9899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985680" y="741240"/>
            <a:ext cx="4886640" cy="3665520"/>
          </a:xfrm>
          <a:prstGeom prst="rect">
            <a:avLst/>
          </a:prstGeom>
          <a:ln w="0">
            <a:noFill/>
          </a:ln>
        </p:spPr>
      </p:sp>
      <p:sp>
        <p:nvSpPr>
          <p:cNvPr id="10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82B7-ED3E-418F-83FF-3953F2FAD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985680" y="741240"/>
            <a:ext cx="4886640" cy="3665520"/>
          </a:xfrm>
          <a:prstGeom prst="rect">
            <a:avLst/>
          </a:prstGeom>
          <a:ln w="0">
            <a:noFill/>
          </a:ln>
        </p:spPr>
      </p:sp>
      <p:sp>
        <p:nvSpPr>
          <p:cNvPr id="10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C384-B714-4157-930A-0EDD3F8EB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985680" y="741240"/>
            <a:ext cx="4886640" cy="3665520"/>
          </a:xfrm>
          <a:prstGeom prst="rect">
            <a:avLst/>
          </a:prstGeom>
          <a:ln w="0">
            <a:noFill/>
          </a:ln>
        </p:spPr>
      </p:sp>
      <p:sp>
        <p:nvSpPr>
          <p:cNvPr id="1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1C51-B7F1-452D-B717-387EB8BCD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985680" y="741240"/>
            <a:ext cx="4886640" cy="3665520"/>
          </a:xfrm>
          <a:prstGeom prst="rect">
            <a:avLst/>
          </a:prstGeom>
          <a:ln w="0">
            <a:noFill/>
          </a:ln>
        </p:spPr>
      </p:sp>
      <p:sp>
        <p:nvSpPr>
          <p:cNvPr id="10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1B42-4D55-4297-8741-E6D3B1C3C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985680" y="741240"/>
            <a:ext cx="4886640" cy="3665520"/>
          </a:xfrm>
          <a:prstGeom prst="rect">
            <a:avLst/>
          </a:prstGeom>
          <a:ln w="0">
            <a:noFill/>
          </a:ln>
        </p:spPr>
      </p:sp>
      <p:sp>
        <p:nvSpPr>
          <p:cNvPr id="11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25E3-04E7-4BDC-A595-23CDB751E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985680" y="741240"/>
            <a:ext cx="4886640" cy="3665520"/>
          </a:xfrm>
          <a:prstGeom prst="rect">
            <a:avLst/>
          </a:prstGeom>
          <a:ln w="0">
            <a:noFill/>
          </a:ln>
        </p:spPr>
      </p:sp>
      <p:sp>
        <p:nvSpPr>
          <p:cNvPr id="11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B4E6-CE2F-44FC-BE2C-6912CEFAC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985680" y="741240"/>
            <a:ext cx="4886640" cy="3665520"/>
          </a:xfrm>
          <a:prstGeom prst="rect">
            <a:avLst/>
          </a:prstGeom>
          <a:ln w="0">
            <a:noFill/>
          </a:ln>
        </p:spPr>
      </p:sp>
      <p:sp>
        <p:nvSpPr>
          <p:cNvPr id="1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6B2E-4543-45D6-984B-FBF0F3658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7E15-384D-4718-934B-80E8A2F35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985680" y="741240"/>
            <a:ext cx="4886640" cy="3665520"/>
          </a:xfrm>
          <a:prstGeom prst="rect">
            <a:avLst/>
          </a:prstGeom>
          <a:ln w="0">
            <a:noFill/>
          </a:ln>
        </p:spPr>
      </p:sp>
      <p:sp>
        <p:nvSpPr>
          <p:cNvPr id="11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8A7B-4FA0-462C-B30A-FD395F063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985680" y="741240"/>
            <a:ext cx="4886640" cy="3665520"/>
          </a:xfrm>
          <a:prstGeom prst="rect">
            <a:avLst/>
          </a:prstGeom>
          <a:ln w="0">
            <a:noFill/>
          </a:ln>
        </p:spPr>
      </p:sp>
      <p:sp>
        <p:nvSpPr>
          <p:cNvPr id="11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4DB6-D866-4351-B68F-A762498A9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985680" y="741240"/>
            <a:ext cx="4886640" cy="3665520"/>
          </a:xfrm>
          <a:prstGeom prst="rect">
            <a:avLst/>
          </a:prstGeom>
          <a:ln w="0">
            <a:noFill/>
          </a:ln>
        </p:spPr>
      </p:sp>
      <p:sp>
        <p:nvSpPr>
          <p:cNvPr id="11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E35A-A097-47C3-9C99-51F9CCF7B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985680" y="741240"/>
            <a:ext cx="4886640" cy="3665520"/>
          </a:xfrm>
          <a:prstGeom prst="rect">
            <a:avLst/>
          </a:prstGeom>
          <a:ln w="0">
            <a:noFill/>
          </a:ln>
        </p:spPr>
      </p:sp>
      <p:sp>
        <p:nvSpPr>
          <p:cNvPr id="1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5A04-2B94-409A-B667-8490F0CD7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985680" y="741240"/>
            <a:ext cx="4886640" cy="3665520"/>
          </a:xfrm>
          <a:prstGeom prst="rect">
            <a:avLst/>
          </a:prstGeom>
          <a:ln w="0">
            <a:noFill/>
          </a:ln>
        </p:spPr>
      </p:sp>
      <p:sp>
        <p:nvSpPr>
          <p:cNvPr id="11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FA9E-2169-42F7-B8D9-A13BE7E40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985680" y="741240"/>
            <a:ext cx="4886640" cy="3665520"/>
          </a:xfrm>
          <a:prstGeom prst="rect">
            <a:avLst/>
          </a:prstGeom>
          <a:ln w="0">
            <a:noFill/>
          </a:ln>
        </p:spPr>
      </p:sp>
      <p:sp>
        <p:nvSpPr>
          <p:cNvPr id="11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DA4A-B12D-4BAE-8DDC-FD9DFECBD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985680" y="741240"/>
            <a:ext cx="4886640" cy="3665520"/>
          </a:xfrm>
          <a:prstGeom prst="rect">
            <a:avLst/>
          </a:prstGeom>
          <a:ln w="0">
            <a:noFill/>
          </a:ln>
        </p:spPr>
      </p:sp>
      <p:sp>
        <p:nvSpPr>
          <p:cNvPr id="11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D394-69E1-4AC8-B94A-2CB4061E3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PlaceHolder 1"/>
          <p:cNvSpPr>
            <a:spLocks noGrp="1"/>
          </p:cNvSpPr>
          <p:nvPr>
            <p:ph type="sldImg"/>
          </p:nvPr>
        </p:nvSpPr>
        <p:spPr>
          <a:xfrm>
            <a:off x="985680" y="741240"/>
            <a:ext cx="4886640" cy="3665520"/>
          </a:xfrm>
          <a:prstGeom prst="rect">
            <a:avLst/>
          </a:prstGeom>
          <a:ln w="0">
            <a:noFill/>
          </a:ln>
        </p:spPr>
      </p:sp>
      <p:sp>
        <p:nvSpPr>
          <p:cNvPr id="1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B2C8-7E57-4812-96DC-43DE1397E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985680" y="741240"/>
            <a:ext cx="4886640" cy="3665520"/>
          </a:xfrm>
          <a:prstGeom prst="rect">
            <a:avLst/>
          </a:prstGeom>
          <a:ln w="0">
            <a:noFill/>
          </a:ln>
        </p:spPr>
      </p:sp>
      <p:sp>
        <p:nvSpPr>
          <p:cNvPr id="11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F997-756B-4BAC-B008-B0E5EF9FC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985680" y="741240"/>
            <a:ext cx="4886640" cy="3665520"/>
          </a:xfrm>
          <a:prstGeom prst="rect">
            <a:avLst/>
          </a:prstGeom>
          <a:ln w="0">
            <a:noFill/>
          </a:ln>
        </p:spPr>
      </p:sp>
      <p:sp>
        <p:nvSpPr>
          <p:cNvPr id="11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1864-1FE1-44B1-AD83-8D54F7999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A49E-9944-4919-A12F-39AE66517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E569-5042-4C46-BFB1-F9448F010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1B59-B780-4A79-BDEC-1741515D4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985680" y="741240"/>
            <a:ext cx="4886640" cy="3665520"/>
          </a:xfrm>
          <a:prstGeom prst="rect">
            <a:avLst/>
          </a:prstGeom>
          <a:ln w="0">
            <a:noFill/>
          </a:ln>
        </p:spPr>
      </p:sp>
      <p:sp>
        <p:nvSpPr>
          <p:cNvPr id="10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E71C-B5B4-4644-B868-72AE88996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985680" y="741240"/>
            <a:ext cx="4886640" cy="3665520"/>
          </a:xfrm>
          <a:prstGeom prst="rect">
            <a:avLst/>
          </a:prstGeom>
          <a:ln w="0">
            <a:noFill/>
          </a:ln>
        </p:spPr>
      </p:sp>
      <p:sp>
        <p:nvSpPr>
          <p:cNvPr id="1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607F-F48B-408C-BFB3-19AC8A0F9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985680" y="741240"/>
            <a:ext cx="4886640" cy="3665520"/>
          </a:xfrm>
          <a:prstGeom prst="rect">
            <a:avLst/>
          </a:prstGeom>
          <a:ln w="0">
            <a:noFill/>
          </a:ln>
        </p:spPr>
      </p:sp>
      <p:sp>
        <p:nvSpPr>
          <p:cNvPr id="10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FCB42-56C6-468E-A0FD-4F18ECF6B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9604-4C30-4B32-9568-7C449AF6C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501A28-6C61-456B-9D5D-231C356796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E6FAF3-0FE5-4C34-A82B-14065B16DA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7402C6-7EC0-4D4A-9AED-698DAA80E8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82757-CFDC-435B-80E2-75052267F6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41631-51AB-4EF6-BA33-603A77DF1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8561AD-12F2-46DD-A264-BE2FB5BEB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6F2A35-E134-4B3B-B67F-1D4710A1CC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D52623-BBF2-46BD-AA4A-4E36C809C7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56BB73-6DFF-4DB5-80F1-58AC837AB1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430E6E-BF17-4CAD-A76E-F53BA5CF13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B2E2F-5DF7-4A4B-A380-6F7D39A9C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EF04A4-AB5A-477B-8C26-8D1B4EFA52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F7A773-DCB8-4FC4-91C9-7AAA26DDF7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0AD59A-8941-48C5-8CE7-CF9A0A922C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F79F89-7D23-4F19-A75F-78B805B651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E94BB1-E5A3-43FB-B8A3-A074AB7F97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61A509-49D1-4898-A715-96EC80C546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8B1518-D9EE-476C-B8A5-E36FAE57D0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7F0191-9A17-48C3-93B9-9F494F5F4E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FECB40-D4EB-40AE-9ADF-F9C40595CE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FF4039-6AFD-42ED-980E-061322762F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3BC3E-43D8-4B4B-A4B0-634002B1F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ACF0C03-AFFE-4820-A6CF-331B74DE9D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D791B1-6DC8-4610-A21B-3AD0D613DB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654435-7996-4A62-8651-00F795260B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04C1BB-AA17-4664-87F8-B626EE5A76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435A33-FB8A-43DD-9806-DC45DF80A6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54523E-6C1C-4649-A161-BFA6106432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CC6977-F94A-4F49-B4DE-82CC772DC5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3F7094-B1A1-412A-B964-64907FB775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D52C78-936C-4834-9B7C-269D7516A2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5A202F-7CF6-407E-B663-8CA1877429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7302B-7401-466B-A2CD-B0506CCBF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BDA83E-B6D0-42FC-B30F-04CE229BD4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40577A-62F5-4D03-81B8-2CB672946A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39F47E-2D91-4DA5-8381-1E2309C6F6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EB4C56-C081-4C49-9481-EDD83B399D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BF59D8-2EB1-44F3-8FDC-11BD0C35FB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05339E-000D-4E6D-BA38-94085DF0DE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A4E834-06DA-40A9-8DC8-0BC82FB264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60D02C-F5C7-48D2-97F4-90E7B7F1AF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1815FA-BED7-4A35-84E6-83F3819CD2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7BA290-4825-43CE-86EE-5FAE9EB1C9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54AA6-13B9-48CC-800E-77E3C4A1E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DF7F88-687C-4ABA-9242-3783BA9F38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C21E00-82CD-4A85-AA3A-7234453668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F99860-E476-4B55-B0FA-7A3A2A4C10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EDC031-93C1-4179-98B1-7981990D57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B90724-DABF-46A8-BE8D-A5B0602515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A6ECAF4-2389-45CF-B704-F6749DB316D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F7DFD1B-987D-4B75-B9FE-9EBE62410D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831233D-BCA2-429D-ABB8-5D80D75984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A5ABD55-6418-414B-8CB1-917B9AB7AD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5A040DC-5A02-4717-8236-6E939B0A74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67D4E-8448-4325-A986-7CCCEF229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0DEA4E5-8943-484F-BB78-B789219EB9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DF6F12A-639D-4F2C-AE8D-D17BD4FCA2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9EF6BBD-EE0B-406D-A88C-67F4845038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90940A6-8488-4DC7-BE66-DE4FF7AC17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91B9670-A74C-42DD-8842-29DE7A44A6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5FE7CDD4-2476-4D94-B323-F175C55604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8C2AA25-7C98-432D-8DF0-56095F7A8B98}"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794D0-AC3B-47B2-B81E-C5313F6AF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632B4-60E2-408C-970D-74C45023A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A423A-CD42-46CE-A71A-59AD51BBA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819E0-A4D3-4382-A656-FE45C7B00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65652-F8CE-453F-A5AC-46BD26BE9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E1873-6AC1-48E4-9E77-4E5BECE64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A5AFD-AEA4-4B80-AC1C-94D30E8C3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77999-5EEC-4EF6-B9AB-6388EE1C4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BD54D-9178-49A0-B203-51580943C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CE0DD-6AD9-4C28-B5AD-5C25460CC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B1C44C-8A47-44E7-A2FA-1EA4CBF514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9F500-CA15-423E-999D-DF8EDB403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7CCFE7-5173-43C4-AD68-20FEE8E8F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4EBBE-3CBA-4D6C-A278-819F192E8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3BE2F-B3F6-4B34-AE9F-A22F12440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79490-D11C-42B5-A897-08B19030F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AF425-ABAC-4C1A-8A71-DD53BCA10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B3F27-B0A6-4883-8A06-A31233201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4215C-78BA-4ED4-A130-6F9A5663E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E42C1-D8E1-49D5-AEDD-52C8E7174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B632C-1CE4-4C52-8CDC-C8F3363182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F1529B-0DC9-4692-9023-40B838B95E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EEA856-761B-45AD-91E4-2CA613A01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A53663-8B6E-4EDE-9205-A041FF5BFB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66F67-AA92-4D7C-8687-2E26BA450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EDD2C-C310-4625-BD6B-56EA4F1714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2EF7-07AC-47A4-9569-4ADD0BEBA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FC311-3E28-42D6-9D29-8016CC1F6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5E3E7-CCF9-4E87-81F4-B106777276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DA0A2-3F9B-4E00-B59A-974D4F644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0EA60-E7D8-4CFF-AD4A-01CB5A88E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D68D0-0B11-4B34-BC56-18677D4D7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C7E6D-60D9-4864-8117-9C94F5E1F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BCA94-49E3-4C05-869B-9D35275C3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186330-E226-432F-9EDB-84237F552E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8880D9-8D8C-4411-8793-BD4C81C0DA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1025B1-AC0D-42AC-8095-58E80B4E98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491B8-35A4-4528-9530-193275971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48DC21-7991-4FD3-A355-A26C043059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9CC35-AD57-47F9-B88F-B10630CE5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B6B73-6FCE-4D11-A4B1-8A5324A43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8AE40-E63D-46CA-B13C-1DE0EE694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1A28F-C4EF-47C8-8143-60C5AB8B56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458B1-6A45-45CA-AE7A-379F76D0F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4FD93-5236-4315-9B8B-7A67B29D4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08AE2-CC94-4B0F-8386-B37F8A4AE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FB083-8D4B-4ABD-9B9B-FD48FB60B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A033BD-B81F-45DC-B8AC-2F9A1A47F8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A397A-5BE8-40D0-84B3-E9C8FCBCF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C143F9-508B-4099-ADA7-60AA5B792A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02F09D-FB1D-463F-AF90-2A1B33F4D8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671F71-C71B-4199-96E6-BA3D655FF8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B04BA-4DD5-447D-BF3C-A9706D560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2BB10C-16C6-409C-8815-4DEE3C2178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D80EAD-1898-4F6B-9DD4-BFD107FED3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202BB-F5BA-48D4-ACC4-90C98BED09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2D0D4-CA12-4818-828C-2873C8D29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B5A4A-48EC-4685-BCE6-290B771EE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52405-F9EA-4BB1-8CE6-0E2A8D3CC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70DD-74C7-4E98-9B58-304C5DBB4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D90BD-856D-40B0-9CB4-D537D29C2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C34A44-E542-4C93-AF5F-46BE03203C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14328C-D129-488A-B080-1BC98D1B5D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564C43-3239-4D02-8FBF-7757E58FE8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22ACB-17CF-4BED-8362-C56154429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B85F2-AC48-4B75-A2A8-ABFA53652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E1E21C-C1CF-4A0E-BD2B-1AA93FFB7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1CFB29-5A36-4496-A20C-58CE1693B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4ECB35-FE96-415D-B40C-427D728F8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DAB28-3ED4-4C78-899C-78CCEC9BC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6936-AC38-4D2B-BCCC-EC08B49C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814C19-AB1A-4D89-8999-DED10D598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97DD2-DB53-4224-AB0E-A3C298A57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EDE709-57EC-48A4-A09D-D51EC510D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0D3967-E5A4-4F5A-9363-D6CBC86AD6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D25C3F-33A4-4936-AAE4-2B7B6920B6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372A54-5A13-4FA2-99CF-109FA65520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65542-5581-4EDA-BCA2-80CE496C2A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04F3C-29A1-4D75-A4D3-1A2D296F8F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E11C4-585D-4E6A-BAE0-9FD1E9E34A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92CCDF-3689-4FD8-98E4-293BAB5988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D5253-6B99-493E-939D-FFEA25017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B1931D-C161-43B3-A844-B3D93B96B0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B891A-3146-4D8C-ABFF-548965389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F15BF-DB6A-40D0-8E6B-4AB6738AC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99285-34A7-4AAC-BEE9-317A85FF4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776184-5886-49BE-8574-232016575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99C29-0255-42E1-90EF-7C22075AFC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070176-BC05-44EF-8F96-30A363F48A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F43E66-D445-4983-9141-85042B0ACB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1125A3-1FF6-4645-BA2D-0294E08173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E6BC39-E2B7-41AD-A689-DD531BB72C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116E-7305-4553-A3B7-8C37D54BF91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C17B-B540-4E7D-B497-9EBBC3D445D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CFA3-7364-48D3-9D3C-B3A29FBFF35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9AC4-4233-411E-965A-04B93E90EA9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23F2-913A-44DC-AC13-3443B6792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BCE1-2688-41DA-AF2D-DF2B6B08950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96EA-39E9-46AD-818F-C1560A16B7B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4E2E-E679-4355-BFD4-CF02BB2EB75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04E9-D135-480B-914C-43A4B864A23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1015-E44B-40D6-89AB-1823ED9ECE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CDF6-FC85-424E-9F0C-160185FA5FE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8266-B8CF-43F8-86B1-00E4E914765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D532-3614-4892-A839-8DA1E9689E9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3640" y="981000"/>
            <a:ext cx="81356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268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989" name="Picture 9" descr=""/>
          <p:cNvPicPr/>
          <p:nvPr/>
        </p:nvPicPr>
        <p:blipFill>
          <a:blip r:embed="rId1"/>
          <a:stretch/>
        </p:blipFill>
        <p:spPr>
          <a:xfrm>
            <a:off x="0" y="0"/>
            <a:ext cx="9144000" cy="1368360"/>
          </a:xfrm>
          <a:prstGeom prst="rect">
            <a:avLst/>
          </a:prstGeom>
          <a:ln w="0">
            <a:noFill/>
          </a:ln>
        </p:spPr>
      </p:pic>
      <p:pic>
        <p:nvPicPr>
          <p:cNvPr id="990" name="Picture 10" descr=""/>
          <p:cNvPicPr/>
          <p:nvPr/>
        </p:nvPicPr>
        <p:blipFill>
          <a:blip r:embed="rId2"/>
          <a:stretch/>
        </p:blipFill>
        <p:spPr>
          <a:xfrm>
            <a:off x="1258920" y="2060640"/>
            <a:ext cx="1297080" cy="1528560"/>
          </a:xfrm>
          <a:prstGeom prst="rect">
            <a:avLst/>
          </a:prstGeom>
          <a:ln w="0">
            <a:noFill/>
          </a:ln>
        </p:spPr>
      </p:pic>
      <p:pic>
        <p:nvPicPr>
          <p:cNvPr id="991" name="12 - Εικόνα" descr=""/>
          <p:cNvPicPr/>
          <p:nvPr/>
        </p:nvPicPr>
        <p:blipFill>
          <a:blip r:embed="rId3"/>
          <a:stretch/>
        </p:blipFill>
        <p:spPr>
          <a:xfrm>
            <a:off x="6948360" y="1989000"/>
            <a:ext cx="1444680" cy="1573200"/>
          </a:xfrm>
          <a:prstGeom prst="rect">
            <a:avLst/>
          </a:prstGeom>
          <a:ln w="0">
            <a:noFill/>
          </a:ln>
        </p:spPr>
      </p:pic>
      <p:sp>
        <p:nvSpPr>
          <p:cNvPr id="99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1125000"/>
            <a:ext cx="8424720" cy="458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2:52Z</dcterms:modified>
  <cp:revision>156</cp:revision>
  <dc:subject/>
  <dc:title>Παρουσίαση του PowerPoint</dc:title>
</cp:coreProperties>
</file>